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55B-01B4-457A-943C-6D67D899B0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4B4C-B568-4811-88D7-69D0CFA9F3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5322-BF2C-461C-80B8-CACB6C804F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56C-CD0C-4BC8-994D-27588CBFF1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C5B2-F1D8-4F53-AC6D-01D44580A4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9F11-B0A6-44F8-84E4-E312D37D95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F903-3D46-48CF-AD1D-FF93AB3D4D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4F8-B6EC-4F2A-90D9-CCDC2A7E8F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192E-DCF7-478F-AEA6-6199BF6A43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95F9-B53A-45A4-859C-35F2944E81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8D1-59C2-41D8-9F04-2D54257B7D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065A-F28C-4720-BFF6-5C3E38193D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BE6-0A58-44AD-9916-5E54DF8F29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491-E595-4DE1-9443-57DAAB02C5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78F5-BB95-43B4-ADC9-ABB34B17B6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75EF-C0D0-4F80-B3C8-E57F62FD98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239C-17EB-422C-B3ED-24E3AAD17E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E82-30AB-43C4-A4E2-4446F72E72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0CF-65F6-49DA-BDF1-4B1F2846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7F2-E679-4542-8961-676E958F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E15-3F47-4CC9-8BD8-45E299E9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7C7-3978-4784-891E-22A04AA9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A87A-439C-4985-8112-37EAAE46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34F3-5A3A-477D-8A28-451C603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CC6-74A1-4653-917F-DED8FADB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2B95-3393-45BF-AF05-9ACE0D4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5983-29E1-4BB8-AAD2-6CB2B8BB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4D58-BB86-4D31-8F46-8A401CD7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D6C5-9AF4-43CC-A969-5B59D17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A2B-0E5A-47A2-A826-8470EE7B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4876-F9DB-4521-81B2-B7F12EC1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11A-7185-4071-89CC-D2B7226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8188-8D5D-40D6-9D0D-61E62038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332C-14EC-48F3-A93A-376E2E43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6C77-6908-4FE8-853E-784B9926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7388F-8EDB-449F-B0A6-311EA318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A490B-D554-419A-86C3-FA1A60EB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5C1B9-607D-4355-966C-7F84D3B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9F533-4E44-45AD-B3D9-8549FD4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C2089-150C-419B-8706-A6A2F178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959-F643-4F6D-AAC7-6F931F99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6698C-A177-4CA8-AB39-AE78351F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96DC2-70C2-4D8F-9516-C4F925D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09FEB-DE33-4A34-AC31-B0297DB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A105A-3595-4A58-82F1-7153A47F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F626C-0793-4452-9A2D-83F3CB2F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6EC49-5DB4-4012-BB70-440B585B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272EB-46B9-40C8-A3A8-672795A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4E69D-E28E-4BCD-A23D-21DEBC05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C3259-A3E5-49D9-BFE7-E6974441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38695-39AF-42DF-B380-CFABA13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CF9-1550-4440-A1B0-E2DE7EB0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D4F05-4CD9-426F-9CEF-BACABC4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7AAF5-CAB3-48F2-AD0B-962FB1DB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B99D7-2C3D-4385-AF69-E32B331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9E4EA-AA38-4B4E-914B-91571E92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47C54-31B1-4131-A19A-D2EE08D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513D4-D8C3-4AAA-9AB5-657EC7B8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5E3A6-39D9-4D3D-8ECC-5C57DAA8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2D758-7B8C-45D8-8272-4C7864A2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743BB2-C978-44D9-BFF1-064370A6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9C3A0-FD3A-4F03-98AC-9D611541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3D2-1A38-4CD1-A9B3-33D98E7A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DD5F4-33BD-4FC6-AF0E-D9A0E0FB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E5612-3BB7-4511-8AFC-CA0B461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FD805-3C2A-4720-9939-A02F5D1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1DD6C-6836-4C21-8696-8DCADF9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F731E-B6E6-4888-9DF2-71FA132B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D6D13-66C3-4627-8512-A0322B4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58F97-5BC1-4DF2-BD02-53A8F67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39165-02C6-4DE3-A039-2AF606D2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6B6FE-2239-4DDD-9F86-03354504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0C493-9EB7-4836-AC05-F839F5FE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04A-E870-4F2A-A88C-6CD22CD2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037AE-CB87-437E-BE52-3F30F210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98147-CD07-40D6-AE2F-631C6970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BFE7C-173D-4044-90DC-DBB26747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BB60-521F-4DCC-B5C5-D6B2EDD5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B9A5-289A-42D7-84D0-F059A172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1FB20-8DB9-432A-8770-C10631D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C9977-A729-4169-B77F-7B952729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2684B-1A59-4EC8-B72C-BB02AEE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6280-FBDE-4F58-B103-435EB875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DC146-ABE3-4C4E-8D12-31D2074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532-7A4A-425C-B345-DA989A4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B08CB-88FE-40D8-BB4A-836D77E2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F729-6D40-45C9-AEA3-096678A6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7B7C9-359C-44C7-9A33-D52B8F44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90563-75E6-4067-A1F1-9FDAFBF1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AE85A-BCFC-4FF9-8284-B0A4E1DD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B1417-CC73-442B-B10C-EFBC8625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650BF-A545-434C-B467-86728CD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72956-90F0-4C2B-A6B5-D853815E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610D6-B081-41E1-B1C7-0B9D4353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21827-4789-440B-BF4B-C1581571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801-052D-46FC-9A53-7D47320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04601-D69C-4FEF-9EA6-DCFBCA24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7DDC5-591D-411C-A348-598C438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25FB7-9CE9-4382-829C-A166E11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DD136-40C1-456D-BA20-9E05A551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833FD-B09B-436D-846F-64F9C9AB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1E3F1-F74A-42A7-8BB6-A8853A5D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BA3D7-632A-48A8-B68E-DF49A67E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A9C7B-4056-441B-91EF-0CF57696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6B8AE-D21F-43B4-B2CE-6FEEA6E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D8E3A-197B-4BEC-B813-AE30E71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AE8-C881-4B8F-B026-33103743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CD066-7A0A-4C23-B10A-22FFF15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0D65A-586E-4E91-B9F2-AEB641A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505AA-E71F-4437-9963-4FDDCB6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5ADB-BD88-4BDD-9BE0-2CABB0FD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35B33-4F6C-486B-9524-C4028708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A013-9D35-4BB2-B02E-26622DF3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CA3FA-C0BC-4EE9-92BF-24D6A404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0FE2-17A1-43A9-B71A-8AEFE9D81A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E082-729A-4018-8051-ABCC07AABEC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9554-5904-4CE6-804E-070AEC91ADB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A488-6E3C-44A3-B0D2-D044EBA641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A55-B9A3-43C1-8A45-B557156C47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1199-856E-4825-9654-D84447C9DE1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490F-8743-4FB4-98CA-3F5FC642960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2B85-BC8E-4729-B425-15C534C4F7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rançais 3 - Introduc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w Cen MT"/>
              </a:rPr>
              <a:t>Comment est-il? Comment est-elle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27008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5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1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AVOIR + # AN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nerd"/>
          <p:cNvPicPr/>
          <p:nvPr/>
        </p:nvPicPr>
        <p:blipFill>
          <a:blip r:embed="rId1"/>
          <a:stretch/>
        </p:blipFill>
        <p:spPr>
          <a:xfrm>
            <a:off x="2536920" y="1752480"/>
            <a:ext cx="4140000" cy="51055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5867280" y="1447920"/>
            <a:ext cx="2971800" cy="1523880"/>
          </a:xfrm>
          <a:prstGeom prst="wedgeRoundRectCallout">
            <a:avLst>
              <a:gd name="adj1" fmla="val -65759"/>
              <a:gd name="adj2" fmla="val 17520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onjou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18 a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#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28600" y="16765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on â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2362320" y="13208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NOU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gm20--siamese-cat"/>
          <p:cNvPicPr/>
          <p:nvPr/>
        </p:nvPicPr>
        <p:blipFill>
          <a:blip r:embed="rId1"/>
          <a:stretch/>
        </p:blipFill>
        <p:spPr>
          <a:xfrm>
            <a:off x="2413080" y="1905120"/>
            <a:ext cx="4673520" cy="47149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0" y="2133720"/>
            <a:ext cx="2590920" cy="2743200"/>
          </a:xfrm>
          <a:prstGeom prst="wedgeRoundRectCallout">
            <a:avLst>
              <a:gd name="adj1" fmla="val 75120"/>
              <a:gd name="adj2" fmla="val 8564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yeux bleus. Mia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yeux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__________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486400" y="7621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shorthair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567480" y="3124080"/>
            <a:ext cx="2590920" cy="2057400"/>
          </a:xfrm>
          <a:prstGeom prst="wedgeRoundRectCallout">
            <a:avLst>
              <a:gd name="adj1" fmla="val -98351"/>
              <a:gd name="adj2" fmla="val 6222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cou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562720" y="3049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the_happy_carpenters_2nd_cousin"/>
          <p:cNvPicPr/>
          <p:nvPr/>
        </p:nvPicPr>
        <p:blipFill>
          <a:blip r:embed="rId1"/>
          <a:stretch/>
        </p:blipFill>
        <p:spPr>
          <a:xfrm>
            <a:off x="3048120" y="1676520"/>
            <a:ext cx="3443040" cy="51814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304920" y="1752480"/>
            <a:ext cx="2590560" cy="2057400"/>
          </a:xfrm>
          <a:prstGeom prst="wedgeRoundRectCallout">
            <a:avLst>
              <a:gd name="adj1" fmla="val 100120"/>
              <a:gd name="adj2" fmla="val 109569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long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486400" y="22860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43006056_913807e81d"/>
          <p:cNvPicPr/>
          <p:nvPr/>
        </p:nvPicPr>
        <p:blipFill>
          <a:blip r:embed="rId1"/>
          <a:stretch/>
        </p:blipFill>
        <p:spPr>
          <a:xfrm>
            <a:off x="1371600" y="1712880"/>
            <a:ext cx="7315200" cy="4916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6095880" y="1752480"/>
            <a:ext cx="2590920" cy="2057400"/>
          </a:xfrm>
          <a:prstGeom prst="wedgeRoundRectCallout">
            <a:avLst>
              <a:gd name="adj1" fmla="val -79287"/>
              <a:gd name="adj2" fmla="val 96324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rou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5486400" y="1522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yao_ming"/>
          <p:cNvPicPr/>
          <p:nvPr/>
        </p:nvPicPr>
        <p:blipFill>
          <a:blip r:embed="rId1"/>
          <a:stretch/>
        </p:blipFill>
        <p:spPr>
          <a:xfrm>
            <a:off x="2286000" y="1828800"/>
            <a:ext cx="4459320" cy="784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ÊTRE + ADJECTI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6324480" y="4191120"/>
            <a:ext cx="2590920" cy="1523880"/>
          </a:xfrm>
          <a:prstGeom prst="wedgeRoundRectCallout">
            <a:avLst>
              <a:gd name="adj1" fmla="val -75490"/>
              <a:gd name="adj2" fmla="val -146773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gr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04920" y="1828800"/>
            <a:ext cx="2590560" cy="1523880"/>
          </a:xfrm>
          <a:prstGeom prst="wedgeRoundRectCallout">
            <a:avLst>
              <a:gd name="adj1" fmla="val 49254"/>
              <a:gd name="adj2" fmla="val 10460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pet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3808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 – Le verbe </a:t>
            </a: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AVOIR (to hav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762120" y="19810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J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762120" y="264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762120" y="32767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762120" y="3940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762120" y="4648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3886200" y="1981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3886200" y="2644920"/>
            <a:ext cx="14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v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3886200" y="3276720"/>
            <a:ext cx="10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886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106668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2193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114300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1600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1447920" y="4651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487692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48769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441972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487692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685800" y="53341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C’est le verbe </a:t>
            </a:r>
            <a:r>
              <a:rPr b="0" i="1" lang="fr-FR" sz="4000" spc="-1" strike="noStrike">
                <a:solidFill>
                  <a:srgbClr val="ff0000"/>
                </a:solidFill>
                <a:latin typeface="Tw Cen MT"/>
              </a:rPr>
              <a:t>h</a:t>
            </a:r>
            <a:r>
              <a:rPr b="0" i="1" lang="fr-FR" sz="4000" spc="-1" strike="noStrike">
                <a:solidFill>
                  <a:srgbClr val="660066"/>
                </a:solidFill>
                <a:latin typeface="Tw Cen MT"/>
              </a:rPr>
              <a:t>av</a:t>
            </a: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ir</a:t>
            </a: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tru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vaillez avec la personne à côté de vou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éez des descriptions des personnes suiv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pouvez mentioner des aspects de leur portrait physique et leur portrait mor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comprenez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ns-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9-16T10:52:39Z</dcterms:modified>
  <cp:revision>84</cp:revision>
  <dc:subject/>
  <dc:title>Allez, viens! – Level 2</dc:title>
</cp:coreProperties>
</file>